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D0E-68A9-439D-9294-A17FD8CC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213-D397-4D41-AF79-2685354F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F52-C85E-4DF1-9B48-BB964CE3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117-2F15-4065-86B9-EE761C09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69D-A20A-45C6-9CC3-463F3662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F75-32DB-413C-97E5-B4FF5C49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C91-7639-4CFD-9D8E-72F860FA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497D-82B1-4E72-9CF0-FD263BC0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B54-877B-4B49-9D19-4946887D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9B3-8DC8-41C9-9E56-C86B4CFB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A9A-474B-400B-9A4A-B12DF6E7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605-40A5-4915-9FD3-1A8A0005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6D0C-188A-472E-9D42-F7F229E11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people like more processed beef or feedyard bee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layton Du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243828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pent two hours gathering materials and coo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8120" y="3429000"/>
            <a:ext cx="30574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Zane, Erik, Tristen, Tristin, Kaci, Hannah, Holly, and Sara. To my mom for getting the hamburger from Dill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"History of Hamburgers, Hamburger History, Hamburg Steak, What Is a True Hamburger? Meat Choppers, Cheeseburgers." 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What's Cooking America, Cooking Recipes, Food History, Dinner Party Menus and Recipes, Health and Beauty Articles, Culinary Dictionary, Baking Hints, Cooking Tips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Web. 19 Jan. 2012. &lt;http://whatscookingamerica.net/History/HamburgerHistory.htm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"The History of the Hamburger | A Hamburger Today." 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A Hamburger Today - America's Favorite Hamburger Weblog!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Web. 19 Jan. 2012. &lt;http://aht.seriouseats.com/archives/2005/08/the_history_of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"The History of Hamburgers - From the Saddle to the Drive up." 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Barbecue Recipes and Grill Information from Barbecue &amp; Grilling at About.com - BBQ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Web. 19 Jan. 2012. &lt;http://bbq.about.com/cs/hamburgers/a/aa070597.htm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ought I would do this because I love to BBQ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one of my hobbies. I love cooking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show me almost any recipe and if I have the ingredients an the tools I can ma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7623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hink the test subjects will like the feed yard beef l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4120" y="3657600"/>
            <a:ext cx="3485880" cy="2554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124080" cy="217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3352680" y="49528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35910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uy 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ok a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et them eat and tell me what they        think on a scale of 1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cord data in excel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6880" y="4114800"/>
            <a:ext cx="34578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- Processed beef to feed yard be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- Their choice on what is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- Same beef for both girls and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9520" y="4038480"/>
            <a:ext cx="33908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I cooked the burgers. I asked my test subjects what they thought would tast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3181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including boys and girls thought the feedyard beef tasted better. Out of ten all my test subjects gave n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271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got ahold of my information then they would know the processed meat doesn’t taste as good as feed yard be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76720" y="5029200"/>
            <a:ext cx="1447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39084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7:20:15Z</dcterms:created>
  <dc:creator>USD376</dc:creator>
  <dc:description/>
  <dc:language>en-US</dc:language>
  <cp:lastModifiedBy>USD376</cp:lastModifiedBy>
  <dcterms:modified xsi:type="dcterms:W3CDTF">2012-03-23T16:16:41Z</dcterms:modified>
  <cp:revision>12</cp:revision>
  <dc:subject/>
  <dc:title>What do people like more processed beef or feedyard beef?</dc:title>
</cp:coreProperties>
</file>